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766800"/>
            <a:ext cx="4599000" cy="34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739360"/>
            <a:ext cx="624852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6035-8150-48F1-87F8-07261730A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0400" y="766800"/>
            <a:ext cx="4599000" cy="3449520"/>
          </a:xfrm>
          <a:prstGeom prst="rect">
            <a:avLst/>
          </a:prstGeom>
          <a:ln w="0">
            <a:noFill/>
          </a:ln>
        </p:spPr>
      </p:sp>
      <p:sp>
        <p:nvSpPr>
          <p:cNvPr id="15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his training module provides an introduction to the Medicare program for audiences of people who are, or soon will be, eligible for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Medicare! This short presentation will give you an overview of the Medicare program—and let you know where you can get more informa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 This training module was developed and approved by the Centers for Medicare &amp; Medicaid Services (CMS), the Federal agency that administers Medicare and Medicaid. The information in this module was correct as of July 2006.</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is set of National Medicare Training Program materials is not a legal document. The official Medicare program provisions are contained in the relevant laws, regulations, and ruling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30400" y="766800"/>
            <a:ext cx="4599000" cy="3449520"/>
          </a:xfrm>
          <a:prstGeom prst="rect">
            <a:avLst/>
          </a:prstGeom>
          <a:ln w="0">
            <a:noFill/>
          </a:ln>
        </p:spPr>
      </p:sp>
      <p:sp>
        <p:nvSpPr>
          <p:cNvPr id="1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ople who choose Medicare Part B usually have the premium taken out of their monthly Social Security or Railroad Retirement payment. If you are a Federal government retiree, you may be able to have the premium taken out of your retirement check.</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information about Medicare Part B premiums, you can call the agency that enrolled you in Medicare (the Social Security Administration or Railroad Retirement Board), or the Office of Personnel Management (OPM) for retired Federal employe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you don’t get a retirement payment, Medicare sends you a bill every 3 months for Medicare Part B premiums. You can pay the bill by credit card, check, or money orde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can also choose to have your Part B premiums automatically deducted from your bank account using Medicare “Easy Pay.” (Easy Pay can also be used to pay the premium for Part A.) You </a:t>
            </a:r>
            <a:r>
              <a:rPr b="0" lang="en-US" sz="1200" spc="-1" strike="noStrike">
                <a:solidFill>
                  <a:srgbClr val="000000"/>
                </a:solidFill>
                <a:latin typeface="Times New Roman"/>
              </a:rPr>
              <a:t>can contact 1-800-MEDICARE (1-800-633-4227) to ask for a Medicare Easy Pay Authorization For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C1ED-BA89-4D08-A2B6-29DEE5521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0400" y="766800"/>
            <a:ext cx="4599000" cy="3449520"/>
          </a:xfrm>
          <a:prstGeom prst="rect">
            <a:avLst/>
          </a:prstGeom>
          <a:ln w="0">
            <a:noFill/>
          </a:ln>
        </p:spPr>
      </p:sp>
      <p:sp>
        <p:nvSpPr>
          <p:cNvPr id="176" name="PlaceHolder 2"/>
          <p:cNvSpPr>
            <a:spLocks noGrp="1"/>
          </p:cNvSpPr>
          <p:nvPr>
            <p:ph type="body"/>
          </p:nvPr>
        </p:nvSpPr>
        <p:spPr>
          <a:xfrm>
            <a:off x="914400" y="4370400"/>
            <a:ext cx="5029200" cy="429264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just talked about what services Medicare covers and how to sign up for Part A and Part B. (We will talk about how to sign up for prescription drug coverage in a few minutes.) You can choose to get your Medicare health care coverage in different ways. The Medicare plan you choose affects your costs, benefits, and convenience, and your choice of doctors, hospitals, and pharmacies. No matter how you choose to get your Medicare health care, you are still in the Medicare Program.</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nywhere in the country can get the Original Medicare Plan. It is also known as “fee-for-service.” However, there are other plans besides the Original Medicare Plan that people can choose to get their Medicare health coverage.</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dvantage Plans let private insurance companies give you choices in Medicare coverage. There are several types of Medicare Advantage Plans, as well as other types of Medicare Plans. (You may have heard Medicare Advantage called “Medicare Part C.”)</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get Medicare prescription drug coverage as part of these Medicare Advantage Plans and Other Medicare Plans. There are also Medicare Prescription Drug Plans that add coverage to the Original Medicare Plan and some Other Medicare Plans.</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o over each of these types of Medicare plans, starting with the Original Medicare Pla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6D6E-93AE-4AF6-B83D-A4E265FDC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30400" y="766800"/>
            <a:ext cx="4599000" cy="3449520"/>
          </a:xfrm>
          <a:prstGeom prst="rect">
            <a:avLst/>
          </a:prstGeom>
          <a:ln w="0">
            <a:noFill/>
          </a:ln>
        </p:spPr>
      </p:sp>
      <p:sp>
        <p:nvSpPr>
          <p:cNvPr id="179" name="PlaceHolder 2"/>
          <p:cNvSpPr>
            <a:spLocks noGrp="1"/>
          </p:cNvSpPr>
          <p:nvPr>
            <p:ph type="body"/>
          </p:nvPr>
        </p:nvSpPr>
        <p:spPr>
          <a:xfrm>
            <a:off x="761760" y="4370400"/>
            <a:ext cx="57150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riginal Medicare Plan, you may go to any doctor, specialist, hospital, or other health care provider that accepts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most people don’t pay a premium for Part A, there is a </a:t>
            </a:r>
            <a:r>
              <a:rPr b="1" lang="en-US" sz="1200" spc="-1" strike="noStrike">
                <a:solidFill>
                  <a:srgbClr val="000000"/>
                </a:solidFill>
                <a:latin typeface="Times New Roman"/>
              </a:rPr>
              <a:t>Part A deductible</a:t>
            </a:r>
            <a:r>
              <a:rPr b="0" lang="en-US" sz="1200" spc="-1" strike="noStrike">
                <a:solidFill>
                  <a:srgbClr val="000000"/>
                </a:solidFill>
                <a:latin typeface="Times New Roman"/>
              </a:rPr>
              <a:t> for inpatient hospital stays. The deductible is the amount you must pay for health care before Medicare begins to pay. There is a deductible of $952 in 2006 for hospital stays up to 60 days, and higher costs for longer stays. Costs are different for other Part A servic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art B, you pay a monthly premium ($88.50 in 2006) and the Medicare </a:t>
            </a:r>
            <a:r>
              <a:rPr b="1" lang="en-US" sz="1200" spc="-1" strike="noStrike">
                <a:solidFill>
                  <a:srgbClr val="000000"/>
                </a:solidFill>
                <a:latin typeface="Times New Roman"/>
              </a:rPr>
              <a:t>Part B deductible</a:t>
            </a:r>
            <a:r>
              <a:rPr b="0" lang="en-US" sz="1200" spc="-1" strike="noStrike">
                <a:solidFill>
                  <a:srgbClr val="000000"/>
                </a:solidFill>
                <a:latin typeface="Times New Roman"/>
              </a:rPr>
              <a:t>, which is $124 in 2006. This means you pay the first $124 of your Medicare-approved Part B medical services before Medicare Part B starts paying for care. If you need blood, you must pay for the first three pin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ounts can change every yea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pay </a:t>
            </a:r>
            <a:r>
              <a:rPr b="1" lang="en-US" sz="1200" spc="-1" strike="noStrike">
                <a:solidFill>
                  <a:srgbClr val="000000"/>
                </a:solidFill>
                <a:latin typeface="Times New Roman"/>
              </a:rPr>
              <a:t>some copayments or coinsurance</a:t>
            </a:r>
            <a:r>
              <a:rPr b="0" lang="en-US" sz="1200" spc="-1" strike="noStrike">
                <a:solidFill>
                  <a:srgbClr val="000000"/>
                </a:solidFill>
                <a:latin typeface="Times New Roman"/>
              </a:rPr>
              <a:t> for Part B services. The amount is different for different services but is 20% in most cas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get health care services, you get a Medicare Summary Notice (MSN) showing Medicare’s payments. This notice lists the service you received, what was charged, what Medicare paid, and how much you may be bille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other health insurance coverage, such as a plan from your former job, that plan may cover some or all of these costs. In a few minutes we’ll talk about private insurance policies called Medigap that also may help with these costs. If you can’t afford to pay these costs, there are programs that can help, which we’ll talk about lat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2F4F-B5C9-4532-AD39-99D862EC5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0400" y="766800"/>
            <a:ext cx="4599000" cy="3449520"/>
          </a:xfrm>
          <a:prstGeom prst="rect">
            <a:avLst/>
          </a:prstGeom>
          <a:ln w="0">
            <a:noFill/>
          </a:ln>
        </p:spPr>
      </p:sp>
      <p:sp>
        <p:nvSpPr>
          <p:cNvPr id="182" name="PlaceHolder 2"/>
          <p:cNvSpPr>
            <a:spLocks noGrp="1"/>
          </p:cNvSpPr>
          <p:nvPr>
            <p:ph type="body"/>
          </p:nvPr>
        </p:nvSpPr>
        <p:spPr>
          <a:xfrm>
            <a:off x="761760" y="4292640"/>
            <a:ext cx="563868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enroll in Medicare, you get a red, white, and blue Medicare card. The card shows the type of Medicare coverage you have (Part A Hospital Insurance and/or Part B Medical Insurance) and the date your coverage began. You will use your Medicare card when you get health care services and supplies. If you belong to a Medicare Advantage Plan, Other Medicare Plan, or Medicare Prescription Drug Plan, the plan will send you its own membership card to us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care card also shows your Medicare claim number. For most people, the claim number has 9 numerals and 1 letter. There also may be a number or another letter after the first letter. The 9 numerals show which Social Security record your Medicare is based on. The letter or letters and numbers tell how you are related to the person with that record. For example, if you get Medicare on your own Social Security record, you might have the letter “A,” “T,” or “M” depending on whether you get both Medicare and Social Security benefits or Medicare only. If you get Medicare on your spouse’s record, the letter might be a B. For railroad retirees, there are numbers and letters in front of the Social Security number. These letters and numbers have nothing to do with having Medicare Part A or Part B.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y information on the card is wrong, contact the Social Security Administration, or the Railroad Retirement Board for people who get railroad benefi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rotect your Medicare card and number like you would a credit car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0400" y="766800"/>
            <a:ext cx="4599000" cy="3449520"/>
          </a:xfrm>
          <a:prstGeom prst="rect">
            <a:avLst/>
          </a:prstGeom>
          <a:ln w="0">
            <a:noFill/>
          </a:ln>
        </p:spPr>
      </p:sp>
      <p:sp>
        <p:nvSpPr>
          <p:cNvPr id="184" name="PlaceHolder 2"/>
          <p:cNvSpPr>
            <a:spLocks noGrp="1"/>
          </p:cNvSpPr>
          <p:nvPr>
            <p:ph type="body"/>
          </p:nvPr>
        </p:nvSpPr>
        <p:spPr>
          <a:xfrm>
            <a:off x="914040" y="4370400"/>
            <a:ext cx="518148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talked about the Original Medicare Plan. Now let’s talk about </a:t>
            </a:r>
            <a:r>
              <a:rPr b="1" lang="en-US" sz="1200" spc="-1" strike="noStrike">
                <a:solidFill>
                  <a:srgbClr val="000000"/>
                </a:solidFill>
                <a:latin typeface="Times New Roman"/>
              </a:rPr>
              <a:t>Medigap</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Medicare Plan pays for many health care services and supplies, but it doesn’t pay all of your health care costs. A Medigap policy is a </a:t>
            </a:r>
            <a:r>
              <a:rPr b="1" lang="en-US" sz="1200" spc="-1" strike="noStrike">
                <a:solidFill>
                  <a:srgbClr val="000000"/>
                </a:solidFill>
                <a:latin typeface="Times New Roman"/>
              </a:rPr>
              <a:t>health insurance policy</a:t>
            </a:r>
            <a:r>
              <a:rPr b="0" lang="en-US" sz="1200" spc="-1" strike="noStrike">
                <a:solidFill>
                  <a:srgbClr val="000000"/>
                </a:solidFill>
                <a:latin typeface="Times New Roman"/>
              </a:rPr>
              <a:t> </a:t>
            </a:r>
            <a:r>
              <a:rPr b="1" lang="en-US" sz="1200" spc="-1" strike="noStrike">
                <a:solidFill>
                  <a:srgbClr val="000000"/>
                </a:solidFill>
                <a:latin typeface="Times New Roman"/>
              </a:rPr>
              <a:t>sold by private insurance companies</a:t>
            </a:r>
            <a:r>
              <a:rPr b="0" lang="en-US" sz="1200" spc="-1" strike="noStrike">
                <a:solidFill>
                  <a:srgbClr val="000000"/>
                </a:solidFill>
                <a:latin typeface="Times New Roman"/>
              </a:rPr>
              <a:t> to fill the “gaps” in coverage under the Original Medicare Plan, like deductibles, coinsurance, and copayments. Some Medigap policies also cover benefits that Medicare doesn’t cover, like emergency health care when you travel outside the United Stat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urance companies that sell these policies must follow Federal and state laws that protect you. A Medigap policy must be clearly identified as “Medicare Supplement Insuran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gap policy only works with the Original Medicare Plan. If you join a Medicare Advantage Plan or Other Medicare Plan, your Medigap policy can’t pay any deductibles, copayments, or other costs you pay under your Medicare pla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states except Massachusetts, Minnesota, and Wisconsin, a Medigap policy must be one of 12 standardized plans (A - L) so you can compare them easily. Each plan has a different set of benefits. The benefits in any Medigap Plan A – L are the same for any insurance company. It’s important to compare Medigap policies, because costs can vary for the same coverage. (Note: insurance companies don’t have to offer every Medigap plan. Each company decides which Medigap policies it will sell and the price for each plan, with state review and approva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9F47-9D49-4657-85BC-455E12FF4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30400" y="766800"/>
            <a:ext cx="4599000" cy="3449520"/>
          </a:xfrm>
          <a:prstGeom prst="rect">
            <a:avLst/>
          </a:prstGeom>
          <a:ln w="0">
            <a:noFill/>
          </a:ln>
        </p:spPr>
      </p:sp>
      <p:sp>
        <p:nvSpPr>
          <p:cNvPr id="187" name="PlaceHolder 2"/>
          <p:cNvSpPr>
            <a:spLocks noGrp="1"/>
          </p:cNvSpPr>
          <p:nvPr>
            <p:ph type="body"/>
          </p:nvPr>
        </p:nvSpPr>
        <p:spPr>
          <a:xfrm>
            <a:off x="838080" y="4446360"/>
            <a:ext cx="5639040" cy="442116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time to buy a Medigap policy is during your Medigap open enrollment period. The open enrollment period lasts for 6 months starting on the first day of the month you are enrolled in Medicare Part B </a:t>
            </a:r>
            <a:r>
              <a:rPr b="1" lang="en-US" sz="1200" spc="-1" strike="noStrike">
                <a:solidFill>
                  <a:srgbClr val="000000"/>
                </a:solidFill>
                <a:latin typeface="Times New Roman"/>
              </a:rPr>
              <a:t>and</a:t>
            </a:r>
            <a:r>
              <a:rPr b="0" lang="en-US" sz="1200" spc="-1" strike="noStrike">
                <a:solidFill>
                  <a:srgbClr val="000000"/>
                </a:solidFill>
                <a:latin typeface="Times New Roman"/>
              </a:rPr>
              <a:t> age 65 or older. During the Medigap open enrollment period, you have the right to buy any Medigap policy sold in your state. (Some states give people under age 65 special rights to buy a Medigap policy.)</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buy some Medigap policies if you lose certain kinds of health coverage through no fault of your own, e.g., if your employer group health plan coverage ends, if you move out of the service area, or, in some cases, if you leave your Medicare Advantage Plan. You may also buy a Medigap policy any time an insurance company will sell you one, but your health history may be used to decide if you can buy one and how much you have to pay.</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You can no longer </a:t>
            </a:r>
            <a:r>
              <a:rPr b="0" lang="en-US" sz="1200" spc="-1" strike="noStrike">
                <a:solidFill>
                  <a:srgbClr val="231f20"/>
                </a:solidFill>
                <a:latin typeface="Times New Roman"/>
              </a:rPr>
              <a:t>buy Medigap policies covering prescription drugs because Medicare now offers prescription drug coverage. However, if you already have a Medigap policy that covers prescription drugs, you can keep it.)</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pay the insurance company a monthly premium for your Medigap policy, and you also pay your monthly Medicare Part B premium ($88.50 in 2006). After you get a health care service, you will get a Medicare Summary Notice, and your Medigap insurance company will send you information on what it paid.</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Medigap policies, look at www.medicare.gov on the web, or call 1-800-MEDICARE (1-800-633-4227) and ask for a copy of </a:t>
            </a:r>
            <a:r>
              <a:rPr b="0" i="1" lang="en-US" sz="1200" spc="-1" strike="noStrike">
                <a:solidFill>
                  <a:srgbClr val="000000"/>
                </a:solidFill>
                <a:latin typeface="Times New Roman"/>
              </a:rPr>
              <a:t>Choosing A Medigap Policy: A Guide to Health Insurance for People With Medicare </a:t>
            </a:r>
            <a:r>
              <a:rPr b="0" lang="en-US" sz="1200" spc="-1" strike="noStrike">
                <a:solidFill>
                  <a:srgbClr val="000000"/>
                </a:solidFill>
                <a:latin typeface="Times New Roman"/>
              </a:rPr>
              <a:t>(CMS Pub. No. 02210). You can also call your local State Health Insurance Assistance Program (SHIP) to get a list of the Medigap policies, including premium amounts, being sold in your st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9580-E1B3-4E5A-AA72-B200A83FC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30400" y="766800"/>
            <a:ext cx="4599000" cy="3449520"/>
          </a:xfrm>
          <a:prstGeom prst="rect">
            <a:avLst/>
          </a:prstGeom>
          <a:ln w="0">
            <a:noFill/>
          </a:ln>
        </p:spPr>
      </p:sp>
      <p:sp>
        <p:nvSpPr>
          <p:cNvPr id="190" name="PlaceHolder 2"/>
          <p:cNvSpPr>
            <a:spLocks noGrp="1"/>
          </p:cNvSpPr>
          <p:nvPr>
            <p:ph type="body"/>
          </p:nvPr>
        </p:nvSpPr>
        <p:spPr>
          <a:xfrm>
            <a:off x="533520" y="4370400"/>
            <a:ext cx="5943600" cy="444672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you can choose to get your Medicare benefits. You can choose to join a Medicare Advantage Plan or Other Medicare Pla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types of Medicare Advantage Plans:</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Maintenance Organizations (HMO) Plans</a:t>
            </a:r>
            <a:r>
              <a:rPr b="0" lang="en-US" sz="1200" spc="-1" strike="noStrike">
                <a:solidFill>
                  <a:srgbClr val="000000"/>
                </a:solidFill>
                <a:latin typeface="Times New Roman"/>
              </a:rPr>
              <a:t>— In general, you must get health care from providers in the plan’s network. Some HMO Plans let you choose a Point-of-Service option, where you can go to doctors and hospitals that aren’t part of the plan but it may cost more.</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ferred Provider Organization (PPO) Plans</a:t>
            </a:r>
            <a:r>
              <a:rPr b="0" lang="en-US" sz="1200" spc="-1" strike="noStrike">
                <a:solidFill>
                  <a:srgbClr val="000000"/>
                </a:solidFill>
                <a:latin typeface="Times New Roman"/>
              </a:rPr>
              <a:t>—like an HMO plan but you can see any doctor or provider that accepts Medicare and you don’t need a referral to see a specialist. Going to a provider that isn’t part of the plan will usually cost more.</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vate Fee-for-Service Plans</a:t>
            </a:r>
            <a:r>
              <a:rPr b="0" lang="en-US" sz="1200" spc="-1" strike="noStrike">
                <a:solidFill>
                  <a:srgbClr val="000000"/>
                </a:solidFill>
                <a:latin typeface="Times New Roman"/>
              </a:rPr>
              <a:t>—You can go to any provider that accepts the plan’s terms, and you may get extra benefits. The private company decides how much it will pay and how much you pay for services.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 Needs Plans</a:t>
            </a:r>
            <a:r>
              <a:rPr b="0" lang="en-US" sz="1200" spc="-1" strike="noStrike">
                <a:solidFill>
                  <a:srgbClr val="000000"/>
                </a:solidFill>
                <a:latin typeface="Times New Roman"/>
              </a:rPr>
              <a:t>—Only some groups of people can join a Special Needs Plan, including people in some long-term care facilities (like a nursing home); people who have both Medicare and Medicaid; and people who have certain chronic or disabling conditions. Special Needs Plans are only in limited areas.</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care Medical Savings Account Plans</a:t>
            </a:r>
            <a:r>
              <a:rPr b="0" lang="en-US" sz="1200" spc="-1" strike="noStrike">
                <a:solidFill>
                  <a:srgbClr val="000000"/>
                </a:solidFill>
                <a:latin typeface="Times New Roman"/>
              </a:rPr>
              <a:t>—These plans may be offered in 2007. They have two parts. One part is a Medicare Advantage Plan with a high deductible, and one part is a Medical Savings Account into which Medicare deposits money you can use to pay health care cos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56CF-B883-49AF-A9D9-CD78F50F1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30400" y="766800"/>
            <a:ext cx="4599000" cy="3449520"/>
          </a:xfrm>
          <a:prstGeom prst="rect">
            <a:avLst/>
          </a:prstGeom>
          <a:ln w="0">
            <a:noFill/>
          </a:ln>
        </p:spPr>
      </p:sp>
      <p:sp>
        <p:nvSpPr>
          <p:cNvPr id="193"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three types of Other Medicare Plan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care </a:t>
            </a:r>
            <a:r>
              <a:rPr b="1" lang="en-US" sz="1200" spc="-1" strike="noStrike">
                <a:solidFill>
                  <a:srgbClr val="000000"/>
                </a:solidFill>
                <a:latin typeface="Times New Roman"/>
                <a:ea typeface="Times New Roman"/>
              </a:rPr>
              <a:t>Cost Plans</a:t>
            </a:r>
            <a:r>
              <a:rPr b="0" lang="en-US" sz="1200" spc="-1" strike="noStrike">
                <a:solidFill>
                  <a:srgbClr val="000000"/>
                </a:solidFill>
                <a:latin typeface="Times New Roman"/>
                <a:ea typeface="Times New Roman"/>
              </a:rPr>
              <a:t>—like an HMO, but services you get outside the plan are covered under the Original Medicar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monstrations/Pilot Programs</a:t>
            </a:r>
            <a:r>
              <a:rPr b="0" lang="en-US" sz="1200" spc="-1" strike="noStrike">
                <a:solidFill>
                  <a:srgbClr val="000000"/>
                </a:solidFill>
                <a:latin typeface="Times New Roman"/>
                <a:ea typeface="Times New Roman"/>
              </a:rPr>
              <a:t>—Demonstrations are special projects that test improvements in Medicare coverage, payment, and quality of care. They are usually for a specific group of people and/or are offered only in specific areas. Pilot programs are for people with Medicare with multiple chronic illnesses. These programs are designed to reduce health risks, improve quality of life, and provide saving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CE (Programs of All-inclusive Care for the Elderly)</a:t>
            </a:r>
            <a:r>
              <a:rPr b="0" lang="en-US" sz="1200" spc="-1" strike="noStrike">
                <a:solidFill>
                  <a:srgbClr val="000000"/>
                </a:solidFill>
                <a:latin typeface="Times New Roman"/>
                <a:ea typeface="Times New Roman"/>
              </a:rPr>
              <a:t>—PACE combines medical, social, and long-term care services for frail elderly people. This program can help them continue to live at home for as long as possible before moving to a nursing hom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can visit www.medicare.gov on the web or call 1-800-MEDICARE (1-800-633-4227) to get the most up-to-date and detailed Medicare plan information, including which plans are available to you.</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CA6A-E722-4E9C-9E90-9376B8143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30400" y="766800"/>
            <a:ext cx="4599000" cy="3449520"/>
          </a:xfrm>
          <a:prstGeom prst="rect">
            <a:avLst/>
          </a:prstGeom>
          <a:ln w="0">
            <a:noFill/>
          </a:ln>
        </p:spPr>
      </p:sp>
      <p:sp>
        <p:nvSpPr>
          <p:cNvPr id="19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with Medicare can choose to join a Medicare Advantage Plan. To be eligible to join a Medicare Advantage Plan, you must</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 in the area served by th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Medicare Part A and Part B</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to pay the monthly Medicare Part B premium. However, some  plans may offer an extra benefit by paying part of your Medicare Part B premium.</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an extra monthly premium to the plan (if the plan has on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End-Stage Renal Disease (ESRD), you usually can’t join a Medicare Advantage Plan. However, there are some exceptions, such as if you are already in a plan and develop ESR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6895-C675-4C21-A2D8-BA2A30643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30400" y="766800"/>
            <a:ext cx="4599000" cy="3449520"/>
          </a:xfrm>
          <a:prstGeom prst="rect">
            <a:avLst/>
          </a:prstGeom>
          <a:ln w="0">
            <a:noFill/>
          </a:ln>
        </p:spPr>
      </p:sp>
      <p:sp>
        <p:nvSpPr>
          <p:cNvPr id="199" name="PlaceHolder 2"/>
          <p:cNvSpPr>
            <a:spLocks noGrp="1"/>
          </p:cNvSpPr>
          <p:nvPr>
            <p:ph type="body"/>
          </p:nvPr>
        </p:nvSpPr>
        <p:spPr>
          <a:xfrm>
            <a:off x="914040" y="4370400"/>
            <a:ext cx="518148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more about how Medicare Advantage Plans work.</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Medicare Advantage Plans, you usually get all your Medicare-covered health care through that plan. The plan may offer extra benefits such as prescription drug coverage and coverage for vision, hearing, dental and/or health and wellness programs. You may have to see doctors that belong to the plan or go to certain hospitals to get servic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have to pay other costs (such as copayments or coinsurance) for the services you g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know that if you join a Medicare Advantage Plan, you</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ill in the Medicare program</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get all your regular Part A and Part B service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have Medicare rights and protec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0400" y="766800"/>
            <a:ext cx="4599000" cy="3449520"/>
          </a:xfrm>
          <a:prstGeom prst="rect">
            <a:avLst/>
          </a:prstGeom>
          <a:ln w="0">
            <a:noFill/>
          </a:ln>
        </p:spPr>
      </p:sp>
      <p:sp>
        <p:nvSpPr>
          <p:cNvPr id="15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short introduction, we will cover information o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Medicar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Supplement Insurance (often known as Medigap)</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dvantage and Other Medicare Plans (e.g., HMOs and PPO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prescription drug coverag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id and Medicare Savings Program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0400" y="766800"/>
            <a:ext cx="4599000" cy="3449520"/>
          </a:xfrm>
          <a:prstGeom prst="rect">
            <a:avLst/>
          </a:prstGeom>
          <a:ln w="0">
            <a:noFill/>
          </a:ln>
        </p:spPr>
      </p:sp>
      <p:sp>
        <p:nvSpPr>
          <p:cNvPr id="2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l people with Medicare can join a plan that covers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Medicare Part A (Hospital Insurance), or Medicare Part B (Medical Insurance), or both Part A and Part B, you can join a Medicare drug plan. You must join a plan to get Medicare prescription drug coverage. However, people who live outside the U.S. or who are in jail may not join a plan and can’t get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has contracts with private companies that offer Medicare Prescription Drug Plans. These companies work with the drug companies to get lower drug prices for the people who join their plan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get Medicare drug coverage through a Medicare Advantage Plan or Other Medicare Plan if you are enrolled in one. Some employers and unions may provide Medicare prescription drug coverage to their retirees through their group health plans. (</a:t>
            </a:r>
            <a:r>
              <a:rPr b="1" lang="en-US" sz="1200" spc="-1" strike="noStrike">
                <a:solidFill>
                  <a:srgbClr val="231f20"/>
                </a:solidFill>
                <a:latin typeface="Times New Roman"/>
              </a:rPr>
              <a:t>Note: </a:t>
            </a:r>
            <a:r>
              <a:rPr b="0" lang="en-US" sz="1200" spc="-1" strike="noStrike">
                <a:solidFill>
                  <a:srgbClr val="231f20"/>
                </a:solidFill>
                <a:latin typeface="Times New Roman"/>
              </a:rPr>
              <a:t>Medigap policies with prescription drug coverage </a:t>
            </a:r>
            <a:r>
              <a:rPr b="1" lang="en-US" sz="1200" spc="-1" strike="noStrike">
                <a:solidFill>
                  <a:srgbClr val="231f20"/>
                </a:solidFill>
                <a:latin typeface="Times New Roman"/>
              </a:rPr>
              <a:t>aren’t </a:t>
            </a:r>
            <a:r>
              <a:rPr b="0" lang="en-US" sz="1200" spc="-1" strike="noStrike">
                <a:solidFill>
                  <a:srgbClr val="231f20"/>
                </a:solidFill>
                <a:latin typeface="Times New Roman"/>
              </a:rPr>
              <a:t>Medicare drug pl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understand that Medicare prescription drug coverage is not automatic. So while anyone with Medicare can get this coverage, you must sign up with a plan to get i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310C-F4E4-42A5-9D84-C6B4A5CEA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30400" y="766800"/>
            <a:ext cx="4599000" cy="3449520"/>
          </a:xfrm>
          <a:prstGeom prst="rect">
            <a:avLst/>
          </a:prstGeom>
          <a:ln w="0">
            <a:noFill/>
          </a:ln>
        </p:spPr>
      </p:sp>
      <p:sp>
        <p:nvSpPr>
          <p:cNvPr id="204" name="PlaceHolder 2"/>
          <p:cNvSpPr>
            <a:spLocks noGrp="1"/>
          </p:cNvSpPr>
          <p:nvPr>
            <p:ph type="body"/>
          </p:nvPr>
        </p:nvSpPr>
        <p:spPr>
          <a:xfrm>
            <a:off x="761760" y="4292280"/>
            <a:ext cx="5257800" cy="460044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re are three periods of time when you can sign up for Medicare prescription drug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Initial Enrollment Period</a:t>
            </a:r>
            <a:r>
              <a:rPr b="0" lang="en-US" sz="1200" spc="-1" strike="noStrike">
                <a:solidFill>
                  <a:srgbClr val="000000"/>
                </a:solidFill>
                <a:latin typeface="Times New Roman"/>
              </a:rPr>
              <a:t> lasts for 7 months starting 3 months before the month you become eligible for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Annual Coordinated Election Period, </a:t>
            </a:r>
            <a:r>
              <a:rPr b="0" lang="en-US" sz="1200" spc="-1" strike="noStrike">
                <a:solidFill>
                  <a:srgbClr val="000000"/>
                </a:solidFill>
                <a:latin typeface="Times New Roman"/>
              </a:rPr>
              <a:t>from November 15 – December 31 each year. During this period, if you are not in a Medicare drug plan, you can choose to enroll in one. If you are in a Medicare drug plan, you can choose to drop or switch plans. The change you make will start on January 1 of the next yea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pecial cases in which you get a </a:t>
            </a:r>
            <a:r>
              <a:rPr b="1" lang="en-US" sz="1200" spc="-1" strike="noStrike">
                <a:solidFill>
                  <a:srgbClr val="000000"/>
                </a:solidFill>
                <a:latin typeface="Times New Roman"/>
              </a:rPr>
              <a:t>Special Enrollment Period</a:t>
            </a:r>
            <a:r>
              <a:rPr b="0" lang="en-US" sz="1200" spc="-1" strike="noStrike">
                <a:solidFill>
                  <a:srgbClr val="000000"/>
                </a:solidFill>
                <a:latin typeface="Times New Roman"/>
              </a:rPr>
              <a:t>, such as if you move out of the plan’s service area or move into or out of a long-term care facility. The time you have to make a change is different depending on the reason for the Special Enrollment Perio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ith Medicare can join or switch plans each month. This includes those with full Medicaid benefits, those who get help from Medicaid paying their Medicare premiums, and those who live in an institution, like a nursing ho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DA5A-4FE7-4B92-94BF-E18AFAD12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30400" y="766800"/>
            <a:ext cx="4599000" cy="344952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enroll in a Medicare drug plan when you are first eligible, you may have to pay a penalty to enroll later. In most cases, if you wait until after the end of your Initial Enrollment Period to join a Medicare drug plan, your premiums will go up 1% for every month you waited to enroll. You will have to pay this penalty as long as you have Medicare prescription drug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nalty doesn’t apply if you have other coverage that, on average, is at least as good as Medicare prescription drug coverage. Examples include coverage provided by the Veterans Administration, TRICARE, and the Federal Employee Health Benefits Program, and some types of retiree drug coverag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9DE9-0526-400A-8A62-44D1FA845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30400" y="766800"/>
            <a:ext cx="4599000" cy="3449520"/>
          </a:xfrm>
          <a:prstGeom prst="rect">
            <a:avLst/>
          </a:prstGeom>
          <a:ln w="0">
            <a:noFill/>
          </a:ln>
        </p:spPr>
      </p:sp>
      <p:sp>
        <p:nvSpPr>
          <p:cNvPr id="210" name="PlaceHolder 2"/>
          <p:cNvSpPr>
            <a:spLocks noGrp="1"/>
          </p:cNvSpPr>
          <p:nvPr>
            <p:ph type="body"/>
          </p:nvPr>
        </p:nvSpPr>
        <p:spPr>
          <a:xfrm>
            <a:off x="761760" y="4370400"/>
            <a:ext cx="5562360" cy="4446720"/>
          </a:xfrm>
          <a:prstGeom prst="rect">
            <a:avLst/>
          </a:prstGeom>
          <a:noFill/>
          <a:ln w="0">
            <a:noFill/>
          </a:ln>
        </p:spPr>
        <p:txBody>
          <a:bodyPr lIns="90000" rIns="90000" tIns="46800" bIns="46800" anchor="t">
            <a:noAutofit/>
          </a:bodyPr>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 are different for different plans. Plans must have a standard (minimum) level of coverage. Plans may give you more coverage and/or more drugs, but may charge you a higher monthly premium. You can find the actual coverage and costs of the Medicare drug plans on www.medicare.gov or by calling 1-800-MEDICARE (1-800-633-4227).</a:t>
            </a:r>
            <a:endParaRPr b="0" lang="en-US" sz="1200" spc="-1" strike="noStrike">
              <a:solidFill>
                <a:srgbClr val="000000"/>
              </a:solidFill>
              <a:latin typeface="Times New Roman"/>
            </a:endParaRPr>
          </a:p>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for coverage in 2006, you pay</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thly premium. Some plans have $0 premiums. Others have higher premiums but might cover more. The average national monthly premium for 2006 is about $25.</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uctible. This is the amount you must pay for covered prescriptions each year before the plan starts to pay. Some plans have a $0 deductible (usually for a higher premium). No plan can have a deductible higher than $250.</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yment/Coinsurance. This is the amount you must pay for each prescription after meeting the deductible. In some plans, the copayment (a set amount) or coinsurance (a percentage of the cost) is the same for any prescription. In other plans, there are different levels or “tiers” with different costs. The amount may be different depending on how much you have spent that year. There may be a point during the year when you will be paying all of the cost of your drugs (100% coinsurance), called a coverage gap. Some plans do not have this coverage gap.</a:t>
            </a:r>
            <a:endParaRPr b="0" lang="en-US" sz="1200" spc="-1" strike="noStrike">
              <a:solidFill>
                <a:srgbClr val="000000"/>
              </a:solidFill>
              <a:latin typeface="Times New Roman"/>
            </a:endParaRPr>
          </a:p>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spend $3,600 out-of-pocket for covered drug costs during the year, you pay 5% (or a small copayment) for the rest of the calendar year. This is called catastrophic coverage, and it could start even sooner in some plans. All these amounts can change each yea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EAA9-B10F-465A-8EB7-ED9268957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30400" y="766800"/>
            <a:ext cx="4599000" cy="3449520"/>
          </a:xfrm>
          <a:prstGeom prst="rect">
            <a:avLst/>
          </a:prstGeom>
          <a:ln w="0">
            <a:noFill/>
          </a:ln>
        </p:spPr>
      </p:sp>
      <p:sp>
        <p:nvSpPr>
          <p:cNvPr id="213" name="PlaceHolder 2"/>
          <p:cNvSpPr>
            <a:spLocks noGrp="1"/>
          </p:cNvSpPr>
          <p:nvPr>
            <p:ph type="body"/>
          </p:nvPr>
        </p:nvSpPr>
        <p:spPr>
          <a:xfrm>
            <a:off x="914040" y="4370400"/>
            <a:ext cx="533412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already discussed how </a:t>
            </a:r>
            <a:r>
              <a:rPr b="1" lang="en-US" sz="1200" spc="-1" strike="noStrike">
                <a:solidFill>
                  <a:srgbClr val="000000"/>
                </a:solidFill>
                <a:latin typeface="Times New Roman"/>
              </a:rPr>
              <a:t>all people with Medicare</a:t>
            </a:r>
            <a:r>
              <a:rPr b="0" lang="en-US" sz="1200" spc="-1" strike="noStrike">
                <a:solidFill>
                  <a:srgbClr val="000000"/>
                </a:solidFill>
                <a:latin typeface="Times New Roman"/>
              </a:rPr>
              <a:t> can get Medicare prescription drug coverage. Many </a:t>
            </a:r>
            <a:r>
              <a:rPr b="1" lang="en-US" sz="1200" spc="-1" strike="noStrike">
                <a:solidFill>
                  <a:srgbClr val="000000"/>
                </a:solidFill>
                <a:latin typeface="Times New Roman"/>
              </a:rPr>
              <a:t>people with limited income and resources</a:t>
            </a:r>
            <a:r>
              <a:rPr b="0" lang="en-US" sz="1200" spc="-1" strike="noStrike">
                <a:solidFill>
                  <a:srgbClr val="000000"/>
                </a:solidFill>
                <a:latin typeface="Times New Roman"/>
              </a:rPr>
              <a:t> will get extra help paying for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ra help is for people with Medicare who have an income below 150% of the Federal poverty level and limited resources. The income limit for 2006 is $1,225/month for one person or $1,650/month for a married coupl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counts the income of you and your spouse if you are living together, even if your spouse doesn’t apply for the extra help. Limits may be higher if you live in Alaska or Hawaii or have relatives living in the same household and you provide at least half of their support.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also are counted for you and your spouse if you are living together. The resource limit is $11,500 for one person and $23,000 for a married couple.</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wo types of resources are considered: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resources (i.e., savings accounts, stocks, bonds, and other assets that could be cashed in within 20 work days) and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state, not including your home or the land the home is 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62F9-8BAC-42A0-8386-F274E59A8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30400" y="766800"/>
            <a:ext cx="4599000" cy="344952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the lowest incomes will pay no premiums or deductibles and have small or no copayments. Those below the Federal poverty level will save over 95% on average. Those with slightly higher incomes will have no or a reduced premium, have a reduced deductible, and pay a little more out of pocke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8BC7-BD9A-4CD3-B1CA-BCC07FC81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30400" y="768240"/>
            <a:ext cx="4599000" cy="3449880"/>
          </a:xfrm>
          <a:prstGeom prst="rect">
            <a:avLst/>
          </a:prstGeom>
          <a:ln w="0">
            <a:noFill/>
          </a:ln>
        </p:spPr>
      </p:sp>
      <p:sp>
        <p:nvSpPr>
          <p:cNvPr id="219" name="PlaceHolder 2"/>
          <p:cNvSpPr>
            <a:spLocks noGrp="1"/>
          </p:cNvSpPr>
          <p:nvPr>
            <p:ph type="body"/>
          </p:nvPr>
        </p:nvSpPr>
        <p:spPr>
          <a:xfrm>
            <a:off x="838080" y="4370400"/>
            <a:ext cx="5181840" cy="413712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rtain people may automatically qualify for the extra help and don’t have to apply. These includ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Medicare and full Medicaid benefits (including prescription drug coverag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Medicare who get Supplemental Security Income (SSI) benefits but not Medicaid.</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get help from Medicaid paying their Medicare premiums (belong to Medicare Savings Program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are not in one of these groups, you should apply with the Social Security Administration or your state Medicaid office to find out if you qualify for the extra help.</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qualify, you need to join a Medicare drug plan to get extra help paying your prescription drug costs. If you don’t join a plan or your own, Medicare will enroll you in a plan to make sure you have coverage. Medicare will send you a notice telling you what plan you are in and when your coverage begi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74FA-970F-414E-BB52-086FC1E8C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30400" y="766800"/>
            <a:ext cx="4599000" cy="344952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 programs that can help people save on their Medicare health care cos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id is a joint Federal and state program that helps pay medical costs for some people with limited income and resources. Medicaid is paid for in part by the Federal government and in part by the state government. The program is run by each state. It can cover children, people who are aged, blind, or disabled, and some other groups, depending on the stat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eople are eligible for both Medicaid and Medicare, most of their health care costs are covered. People with Medicaid may get coverage for services that aren’t fully covered by Medicare, such as nursing home care and home health 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te decides who is eligible for Medicaid, how people will apply for Medicaid, and how much help they will get. To see if you qualify, you need to contact your state Medical Assistance office. The office names are different in different stat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pply for Medicaid in this state, [</a:t>
            </a:r>
            <a:r>
              <a:rPr b="0" lang="en-US" sz="1200" spc="-1" strike="noStrike" u="sng">
                <a:solidFill>
                  <a:srgbClr val="000000"/>
                </a:solidFill>
                <a:uFillTx/>
                <a:latin typeface="Times New Roman"/>
              </a:rPr>
              <a:t>Name of State]</a:t>
            </a:r>
            <a:r>
              <a:rPr b="0" lang="en-US" sz="1200" spc="-1" strike="noStrike">
                <a:solidFill>
                  <a:srgbClr val="000000"/>
                </a:solidFill>
                <a:latin typeface="Times New Roman"/>
              </a:rPr>
              <a:t>, you would contact [</a:t>
            </a:r>
            <a:r>
              <a:rPr b="0" lang="en-US" sz="1200" spc="-1" strike="noStrike" u="sng">
                <a:solidFill>
                  <a:srgbClr val="000000"/>
                </a:solidFill>
                <a:uFillTx/>
                <a:latin typeface="Times New Roman"/>
              </a:rPr>
              <a:t>Name of Agency]</a:t>
            </a:r>
            <a:r>
              <a:rPr b="0" lang="en-US" sz="1200" spc="-1" strike="noStrike">
                <a:solidFill>
                  <a:srgbClr val="000000"/>
                </a:solidFill>
                <a:latin typeface="Times New Roman"/>
              </a:rPr>
              <a:t>. </a:t>
            </a:r>
            <a:r>
              <a:rPr b="1" lang="en-US" sz="1200" spc="-1" strike="noStrike">
                <a:solidFill>
                  <a:srgbClr val="000000"/>
                </a:solidFill>
                <a:latin typeface="Times New Roman"/>
              </a:rPr>
              <a:t>(Instructor to add state and agency inform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0400" y="766800"/>
            <a:ext cx="4599000" cy="3449520"/>
          </a:xfrm>
          <a:prstGeom prst="rect">
            <a:avLst/>
          </a:prstGeom>
          <a:ln w="0">
            <a:noFill/>
          </a:ln>
        </p:spPr>
      </p:sp>
      <p:sp>
        <p:nvSpPr>
          <p:cNvPr id="224"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Times New Roman"/>
              </a:rPr>
              <a:t>States have programs that pay Medicare premiums for people with limited income and resources. These Medicare Savings Programs may also pay Medicare Part A and Part B </a:t>
            </a:r>
            <a:r>
              <a:rPr b="0" lang="en-US" sz="1200" spc="-1" strike="noStrike">
                <a:solidFill>
                  <a:srgbClr val="000000"/>
                </a:solidFill>
                <a:latin typeface="Times New Roman"/>
              </a:rPr>
              <a:t>deductibles </a:t>
            </a:r>
            <a:r>
              <a:rPr b="0" lang="en-US" sz="1200" spc="-1" strike="noStrike">
                <a:solidFill>
                  <a:srgbClr val="231f20"/>
                </a:solidFill>
                <a:latin typeface="Times New Roman"/>
              </a:rPr>
              <a:t>and </a:t>
            </a:r>
            <a:r>
              <a:rPr b="0" lang="en-US" sz="1200" spc="-1" strike="noStrike">
                <a:solidFill>
                  <a:srgbClr val="000000"/>
                </a:solidFill>
                <a:latin typeface="Times New Roman"/>
              </a:rPr>
              <a:t>coinsurance</a:t>
            </a:r>
            <a:r>
              <a:rPr b="0" lang="en-US" sz="1200" spc="-1" strike="noStrike">
                <a:solidFill>
                  <a:srgbClr val="231f2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se p</a:t>
            </a:r>
            <a:r>
              <a:rPr b="0" lang="en-US" sz="1200" spc="-1" strike="noStrike">
                <a:solidFill>
                  <a:srgbClr val="000000"/>
                </a:solidFill>
                <a:latin typeface="Times New Roman"/>
              </a:rPr>
              <a:t>rograms </a:t>
            </a:r>
            <a:r>
              <a:rPr b="0" lang="en-US" sz="1200" spc="-1" strike="noStrike">
                <a:solidFill>
                  <a:srgbClr val="000000"/>
                </a:solidFill>
                <a:latin typeface="Times New Roman"/>
              </a:rPr>
              <a:t>often help people whose income or resources are too high to get Medicai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or not you are eligible for these programs depends on how much you have in income and resources. The income amounts can change every year as the Federal poverty level chang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ates also have their own programs to help people with Medicare pay for health care, including State Pharmacy Assistance Programs. Contact the State Health Insurance Assistance Program (SHIP) in your state to find out which programs are in your area.</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E program combines medical, social, and long-term care services for frail elderly people living in the community. It provides all medically necessary services, including prescription drugs. You can only get PACE in some states, and the state decides who will qualify.</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are different in the U.S. territories (Puerto Rico, the Virgin Islands, Guam, the Northern Mariana Islands, and American Samo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0599-56F2-4F30-A991-377B38F61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30400" y="766800"/>
            <a:ext cx="4599000" cy="3449520"/>
          </a:xfrm>
          <a:prstGeom prst="rect">
            <a:avLst/>
          </a:prstGeom>
          <a:ln w="0">
            <a:noFill/>
          </a:ln>
        </p:spPr>
      </p:sp>
      <p:sp>
        <p:nvSpPr>
          <p:cNvPr id="22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information about Medicare, use the following resources: </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MEDICARE (1-800-633-4227). This is the official Medicare helpline. You can call 24 hours a day, 7 days a week. TTY users should call 1-877-486-2048 </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edicare.gov on the web</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tate Health Insurance Assistance Program (SHIP). SHIP phone numbers can be found in the </a:t>
            </a:r>
            <a:r>
              <a:rPr b="0" i="1" lang="en-US" sz="1200" spc="-1" strike="noStrike">
                <a:solidFill>
                  <a:srgbClr val="000000"/>
                </a:solidFill>
                <a:latin typeface="Times New Roman"/>
              </a:rPr>
              <a:t>Medicare &amp; You</a:t>
            </a:r>
            <a:r>
              <a:rPr b="0" lang="en-US" sz="1200" spc="-1" strike="noStrike">
                <a:solidFill>
                  <a:srgbClr val="000000"/>
                </a:solidFill>
                <a:latin typeface="Times New Roman"/>
              </a:rPr>
              <a:t> handbook and on the medicare.gov websit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Medicare &amp; You</a:t>
            </a:r>
            <a:r>
              <a:rPr b="0" lang="en-US" sz="1200" spc="-1" strike="noStrike">
                <a:solidFill>
                  <a:srgbClr val="000000"/>
                </a:solidFill>
                <a:latin typeface="Times New Roman"/>
              </a:rPr>
              <a:t> handbook, mailed each fall to all Medicare household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edicare publications, which you can get through 1-800-MEDICARE or the webs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F4AE-2097-4E08-AAAD-4E15A18B8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30400" y="766800"/>
            <a:ext cx="4599000" cy="3449520"/>
          </a:xfrm>
          <a:prstGeom prst="rect">
            <a:avLst/>
          </a:prstGeom>
          <a:ln w="0">
            <a:noFill/>
          </a:ln>
        </p:spPr>
      </p:sp>
      <p:sp>
        <p:nvSpPr>
          <p:cNvPr id="1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a health insurance program for:</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ge 65 and older</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under age 65 with disabilities who have been getting Social Security disability benefits for a set amount of time (24 months in most case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 all ages with End-Stage Renal Disease (ESRD) (people who have permanent kidney failure and need dialysis or a kidney transplan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Lyndon Johnson signed the bill for the Medicare and Medicaid programs into law on July 30, 1965. Medicaid began January 1, 1966, and Medicare began July 1, 1966. Medicare is the nation’s largest health insurance program, currently covering about 43 million Americ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care program is run by the Centers for Medicare &amp; Medicaid Services (CMS). However, most people sign up for Medicare with the Social Security Administration. People retired from the railroad sign up with the Railroad Retirement Boar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30400" y="766800"/>
            <a:ext cx="4599000" cy="3449520"/>
          </a:xfrm>
          <a:prstGeom prst="rect">
            <a:avLst/>
          </a:prstGeom>
          <a:ln w="0">
            <a:noFill/>
          </a:ln>
        </p:spPr>
      </p:sp>
      <p:sp>
        <p:nvSpPr>
          <p:cNvPr id="22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just covered a great deal of basic information about Medicare. You’ve learned that Medicare is a national health insurance program run by the Centers for Medicare &amp; Medicaid Services for people who are age 65 and over, people under age 65 who have certain disabilities, and people who have End-Stage Renal Diseas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enrolling and paying for Medicare Part A (Hospital Insurance) and Medicare Part B (Medical Insurance). And you know the difference between Medicare and Medigap, which is another name for Medicare Supplement Insuran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ed about the plans you can choose for getting your Medicare coverage and the basics of how they work. They include the Original Medicare Plan, Medicare Advantage Plans, including HMOs and PPOs, and other types of Medicare Pl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that all people with Medicare can now get coverage for prescription drugs and that those with limited income and resources can get extra help with their drug cos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learned there are programs like Medicaid and Medicare Savings Programs to help with out-of-pocket costs. And, most importantly, you know where to get more inform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0400" y="766800"/>
            <a:ext cx="4599000" cy="3449520"/>
          </a:xfrm>
          <a:prstGeom prst="rect">
            <a:avLst/>
          </a:prstGeom>
          <a:ln w="0">
            <a:noFill/>
          </a:ln>
        </p:spPr>
      </p:sp>
      <p:sp>
        <p:nvSpPr>
          <p:cNvPr id="158" name="PlaceHolder 2"/>
          <p:cNvSpPr>
            <a:spLocks noGrp="1"/>
          </p:cNvSpPr>
          <p:nvPr>
            <p:ph type="body"/>
          </p:nvPr>
        </p:nvSpPr>
        <p:spPr>
          <a:xfrm>
            <a:off x="914400" y="4370400"/>
            <a:ext cx="5105520" cy="367992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ocial Security Administration tells people it is best to apply for Medicare 3 months before age 65. You </a:t>
            </a:r>
            <a:r>
              <a:rPr b="0" lang="en-US" sz="1200" spc="-1" strike="noStrike">
                <a:solidFill>
                  <a:srgbClr val="000000"/>
                </a:solidFill>
                <a:latin typeface="Times New Roman"/>
                <a:ea typeface="Arial"/>
              </a:rPr>
              <a:t>don’t have to be retired to get Medicare. The</a:t>
            </a:r>
            <a:r>
              <a:rPr b="0" lang="en-US" sz="1200" spc="-1" strike="noStrike">
                <a:solidFill>
                  <a:srgbClr val="000000"/>
                </a:solidFill>
                <a:latin typeface="Times New Roman"/>
                <a:ea typeface="Arial"/>
              </a:rPr>
              <a:t> retirement age for full Social Security benefits is slowly going up to age 67, but you can still get full Medicare benefits at age 65.</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t get Medicare benefits before age 65 unless you have a disability or </a:t>
            </a:r>
            <a:r>
              <a:rPr b="0" lang="en-US" sz="1200" spc="-1" strike="noStrike">
                <a:solidFill>
                  <a:srgbClr val="000000"/>
                </a:solidFill>
                <a:latin typeface="Times New Roman"/>
              </a:rPr>
              <a:t>End-Stage Renal Disease</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you are already receiving Social Security benefits (for example, getting early retirement), you will be automatically enrolled in Medicare without having to apply again. You will get a Medicare card and other information about 3 months before age 65 or before your 25</a:t>
            </a:r>
            <a:r>
              <a:rPr b="0" lang="en-US" sz="1200" spc="-1" strike="noStrike" baseline="30000">
                <a:solidFill>
                  <a:srgbClr val="000000"/>
                </a:solidFill>
                <a:latin typeface="Times New Roman"/>
                <a:ea typeface="Arial"/>
              </a:rPr>
              <a:t>th</a:t>
            </a:r>
            <a:r>
              <a:rPr b="0" lang="en-US" sz="1200" spc="-1" strike="noStrike">
                <a:solidFill>
                  <a:srgbClr val="000000"/>
                </a:solidFill>
                <a:latin typeface="Times New Roman"/>
                <a:ea typeface="Arial"/>
              </a:rPr>
              <a:t> month of disability benefi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B411-092C-4EF4-A193-99BB9801D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30400" y="766800"/>
            <a:ext cx="4599000" cy="3449520"/>
          </a:xfrm>
          <a:prstGeom prst="rect">
            <a:avLst/>
          </a:prstGeom>
          <a:ln w="0">
            <a:noFill/>
          </a:ln>
        </p:spPr>
      </p:sp>
      <p:sp>
        <p:nvSpPr>
          <p:cNvPr id="161"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has three parts. Medicare Part A is Hospital Insurance. Medicare Part B is Medical Insurance, which helps cover doctors’ services and outpatient 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lso has prescription drug coverage. This is sometimes called Part 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6362-446C-42D6-AE95-0D6A71FDD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30400" y="766800"/>
            <a:ext cx="4599000" cy="3449520"/>
          </a:xfrm>
          <a:prstGeom prst="rect">
            <a:avLst/>
          </a:prstGeom>
          <a:ln w="0">
            <a:noFill/>
          </a:ln>
        </p:spPr>
      </p:sp>
      <p:sp>
        <p:nvSpPr>
          <p:cNvPr id="1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A helps pay for inpatient hospital stays but also covers skilled nursing care, home health care, and hospice care.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B helps cover doctors’ services and outpatient care such as preventive services including screening tests and shots, diagnostic tests, some therapies, and durable medical equipment like wheelchairs and walker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drug coverage helps pay for outpatient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Part A and Part B of Medic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1C0C-A5BE-4EBA-BCAC-0CA725909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30400" y="766800"/>
            <a:ext cx="4599000" cy="3449520"/>
          </a:xfrm>
          <a:prstGeom prst="rect">
            <a:avLst/>
          </a:prstGeom>
          <a:ln w="0">
            <a:noFill/>
          </a:ln>
        </p:spPr>
      </p:sp>
      <p:sp>
        <p:nvSpPr>
          <p:cNvPr id="167" name="PlaceHolder 2"/>
          <p:cNvSpPr>
            <a:spLocks noGrp="1"/>
          </p:cNvSpPr>
          <p:nvPr>
            <p:ph type="body"/>
          </p:nvPr>
        </p:nvSpPr>
        <p:spPr>
          <a:xfrm>
            <a:off x="914400" y="4370400"/>
            <a:ext cx="5105520" cy="429264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n’t have to pay a monthly payment (premium) for Medicare Part A because they or their spouse paid Medicare or FICA taxes while they were working. (FICA stands for "Federal Insurance Contributions Act." This is the tax withheld from your salary, or that you pay from your self-employment income, that helps pay for the Social Security and Medicare program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nd your spouse did not pay Medicare taxes while you were working, or did not work long enough (10 years in most cases) to get premium-free Part A, you may still be able to get Part A by paying a monthly premium. In 2006, the Part A premium is $216 or $393 per month, depending on how long you or your spouse worke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formation on Part A eligibility, enrollment, or premiums, call the Social Security Administration at 1-800-772-1213 or 1-800-325-0778 for TTY us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30400" y="766800"/>
            <a:ext cx="4599000" cy="3449520"/>
          </a:xfrm>
          <a:prstGeom prst="rect">
            <a:avLst/>
          </a:prstGeom>
          <a:ln w="0">
            <a:noFill/>
          </a:ln>
        </p:spPr>
      </p:sp>
      <p:sp>
        <p:nvSpPr>
          <p:cNvPr id="16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oose whether or not to enroll in Part B (Medical Insurance). You will pay a monthly premium for Medicare Part B, which is $88.50 in 2006. You can sign up for Part B any time during a 7-month period that begins 3 months before the month you become eligible for Medicare. This is called the </a:t>
            </a:r>
            <a:r>
              <a:rPr b="1" lang="en-US" sz="1200" spc="-1" strike="noStrike">
                <a:solidFill>
                  <a:srgbClr val="000000"/>
                </a:solidFill>
                <a:latin typeface="Times New Roman"/>
              </a:rPr>
              <a:t>Initial Enrollment Period</a:t>
            </a:r>
            <a:r>
              <a:rPr b="0" lang="en-US" sz="1200" spc="-1" strike="noStrike">
                <a:solidFill>
                  <a:srgbClr val="000000"/>
                </a:solidFill>
                <a:latin typeface="Times New Roman"/>
              </a:rPr>
              <a:t> (IEP).</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take Part B when you are first eligible, you may have to wait to sign up during a </a:t>
            </a:r>
            <a:r>
              <a:rPr b="1" lang="en-US" sz="1200" spc="-1" strike="noStrike">
                <a:solidFill>
                  <a:srgbClr val="000000"/>
                </a:solidFill>
                <a:latin typeface="Times New Roman"/>
              </a:rPr>
              <a:t>General Enrollment Period</a:t>
            </a:r>
            <a:r>
              <a:rPr b="0" lang="en-US" sz="1200" spc="-1" strike="noStrike">
                <a:solidFill>
                  <a:srgbClr val="000000"/>
                </a:solidFill>
                <a:latin typeface="Times New Roman"/>
              </a:rPr>
              <a:t> (GEP). This period runs from January 1 through March 31 of each year, with coverage beginning July 1 of that year.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it until after you are first eligible to get Part B, you will also have to pay a premium penalty of 10% for each full 12-month period you could have had Part B but didn’t sign up for it, except in special cases. In most cases, you will have to pay this penalty for as long as you have Part 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30400" y="766800"/>
            <a:ext cx="4599000" cy="3449520"/>
          </a:xfrm>
          <a:prstGeom prst="rect">
            <a:avLst/>
          </a:prstGeom>
          <a:ln w="0">
            <a:noFill/>
          </a:ln>
        </p:spPr>
      </p:sp>
      <p:sp>
        <p:nvSpPr>
          <p:cNvPr id="1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covered by a group health plan because you, or your spouse, are currently working, you may be able to wait to sign up for Part B without a penalty. This is called a </a:t>
            </a:r>
            <a:r>
              <a:rPr b="1" lang="en-US" sz="1200" spc="-1" strike="noStrike">
                <a:solidFill>
                  <a:srgbClr val="000000"/>
                </a:solidFill>
                <a:latin typeface="Times New Roman"/>
              </a:rPr>
              <a:t>Special Enrollment Period</a:t>
            </a:r>
            <a:r>
              <a:rPr b="0" lang="en-US" sz="1200" spc="-1" strike="noStrike">
                <a:solidFill>
                  <a:srgbClr val="000000"/>
                </a:solidFill>
                <a:latin typeface="Times New Roman"/>
              </a:rPr>
              <a:t>. You can enroll in Part B anytime you are still covered by your employer or union group health plan or during the 8 months following the month the job ends or the group health plan coverage ends, whichever is fir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053FA4D-F662-4658-9465-5DBB8C70B8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C0C60C-75F2-4E2D-86D6-3986C50586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10B8890-769B-4F82-BFDE-FA04957A59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E9E96FD-289E-43F9-B25B-455EEE040A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9148F4C-1F71-47D2-B7EE-8BAA0C7FA7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242601-3D96-4D53-8022-CCE9A427B9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159FF94-3BE0-441E-BCC1-8A4CB3336B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C187A9-87E6-4002-8001-9CE36A9F6D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A7D762A-F9E2-43EE-B573-CDE694548F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229C02F-143E-421D-8E63-073B1B8675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BBDB457-51BE-4E10-9BF7-8CD1009880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D91204-ECF7-443A-AB9A-BE6EA881C3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9339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CE5D-E846-420B-9F4A-E1B90A210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400800"/>
            <a:ext cx="2698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04560" y="638136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lcome to Medicar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77C8DAEE-34B0-401A-8807-5BE40005A4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ying the Part B Premium</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n out of monthly pay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Secur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lroad retir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government retire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information about premiums,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A, RRB, or Office of Personnel Management</a:t>
            </a:r>
            <a:endParaRPr b="0" lang="en-US" sz="2800" spc="-1" strike="noStrike">
              <a:solidFill>
                <a:srgbClr val="000000"/>
              </a:solidFill>
              <a:latin typeface="Times New Roman"/>
            </a:endParaRPr>
          </a:p>
        </p:txBody>
      </p:sp>
      <p:sp>
        <p:nvSpPr>
          <p:cNvPr id="83"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6444C6FB-6762-4323-9E6F-BCAB82EC96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Choice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Plans</a:t>
            </a:r>
            <a:endParaRPr b="0" lang="en-US" sz="3200" spc="-1" strike="noStrike">
              <a:solidFill>
                <a:srgbClr val="000000"/>
              </a:solidFill>
              <a:latin typeface="Times New Roman"/>
            </a:endParaRPr>
          </a:p>
        </p:txBody>
      </p:sp>
      <p:sp>
        <p:nvSpPr>
          <p:cNvPr id="86"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7197B174-5978-4D13-BD01-40C06D412F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al Medicare Pla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83059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any health care provider that accepts Medic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responsible for</a:t>
            </a:r>
            <a:endParaRPr b="0" lang="en-US" sz="28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A</a:t>
            </a:r>
            <a:endParaRPr b="0" lang="en-US" sz="26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2 deductible in 2006 for hospital stays up to 60 days</a:t>
            </a:r>
            <a:endParaRPr b="0" lang="en-US" sz="2400" spc="-1" strike="noStrike">
              <a:solidFill>
                <a:srgbClr val="000000"/>
              </a:solidFill>
              <a:latin typeface="Times New Roman"/>
            </a:endParaRPr>
          </a:p>
          <a:p>
            <a:pPr lvl="3" marL="1600200" indent="-2286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tional costs after 60 days</a:t>
            </a:r>
            <a:endParaRPr b="0" lang="en-US" sz="22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costs for other Part A services</a:t>
            </a:r>
            <a:endParaRPr b="0" lang="en-US" sz="24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B</a:t>
            </a:r>
            <a:endParaRPr b="0" lang="en-US" sz="26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4 annual deductible in 2006</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coinsurance or copayment for most Part B servi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rograms may help with costs</a:t>
            </a:r>
            <a:endParaRPr b="0" lang="en-US" sz="2800" spc="-1" strike="noStrike">
              <a:solidFill>
                <a:srgbClr val="000000"/>
              </a:solidFill>
              <a:latin typeface="Times New Roman"/>
            </a:endParaRPr>
          </a:p>
        </p:txBody>
      </p:sp>
      <p:sp>
        <p:nvSpPr>
          <p:cNvPr id="89"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edicar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ECABE24C-3C1B-4DA9-849D-6B2BFF7372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2590920" y="2286000"/>
          <a:ext cx="3962160" cy="2838600"/>
        </p:xfrm>
        <a:graphic>
          <a:graphicData uri="http://schemas.openxmlformats.org/presentationml/2006/ole">
            <p:oleObj r:id="rId1" spid="">
              <p:embed/>
              <p:pic>
                <p:nvPicPr>
                  <p:cNvPr id="91" name="" descr=""/>
                  <p:cNvPicPr/>
                  <p:nvPr/>
                </p:nvPicPr>
                <p:blipFill>
                  <a:blip r:embed="rId2"/>
                  <a:stretch/>
                </p:blipFill>
                <p:spPr>
                  <a:xfrm>
                    <a:off x="2590920" y="2286000"/>
                    <a:ext cx="3962160" cy="2838600"/>
                  </a:xfrm>
                  <a:prstGeom prst="rect">
                    <a:avLst/>
                  </a:prstGeom>
                  <a:ln w="9360">
                    <a:solidFill>
                      <a:srgbClr val="000000"/>
                    </a:solidFill>
                    <a:miter/>
                  </a:ln>
                </p:spPr>
              </p:pic>
            </p:oleObj>
          </a:graphicData>
        </a:graphic>
      </p:graphicFrame>
      <p:sp>
        <p:nvSpPr>
          <p:cNvPr id="92" name="PlaceHolder 1"/>
          <p:cNvSpPr>
            <a:spLocks noGrp="1"/>
          </p:cNvSpPr>
          <p:nvPr>
            <p:ph type="title"/>
          </p:nvPr>
        </p:nvSpPr>
        <p:spPr>
          <a:xfrm>
            <a:off x="685800" y="6854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edicare Card</a:t>
            </a:r>
            <a:endParaRPr b="0" lang="en-US" sz="4400" spc="-1" strike="noStrike">
              <a:solidFill>
                <a:srgbClr val="000000"/>
              </a:solidFill>
              <a:latin typeface="Times New Roman"/>
            </a:endParaRPr>
          </a:p>
        </p:txBody>
      </p:sp>
      <p:sp>
        <p:nvSpPr>
          <p:cNvPr id="93" name=""/>
          <p:cNvSpPr/>
          <p:nvPr/>
        </p:nvSpPr>
        <p:spPr>
          <a:xfrm>
            <a:off x="3352680" y="449568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ript MT Bold"/>
              </a:rPr>
              <a:t>Jane Doe</a:t>
            </a:r>
            <a:endParaRPr b="0" lang="en-US" sz="1600" spc="-1" strike="noStrike">
              <a:solidFill>
                <a:srgbClr val="000000"/>
              </a:solidFill>
              <a:latin typeface="Times New Roman"/>
            </a:endParaRPr>
          </a:p>
        </p:txBody>
      </p:sp>
      <p:sp>
        <p:nvSpPr>
          <p:cNvPr id="9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edicar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88CC7094-5F88-4E1F-89AD-FC4768A1AD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gap</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807732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insurance poli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d by private insurance compan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say “Medicare Supplement Insur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s “gaps” in the Original Medicare Plan</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ductibles, coinsurance, copayments</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es not work with Medicare Advantage Plans</a:t>
            </a:r>
            <a:endParaRPr b="0" lang="en-US" sz="26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 to 12 standardized plans A – L in most states</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cept in Massachusetts, Minnesota, Wisconsin</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you can compare easily</a:t>
            </a:r>
            <a:endParaRPr b="0" lang="en-US" sz="2600" spc="-1" strike="noStrike">
              <a:solidFill>
                <a:srgbClr val="000000"/>
              </a:solidFill>
              <a:latin typeface="Times New Roman"/>
            </a:endParaRPr>
          </a:p>
        </p:txBody>
      </p:sp>
      <p:sp>
        <p:nvSpPr>
          <p:cNvPr id="97"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ga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261264F9-C540-4920-AF9D-3BE758F7F7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edigap Works</a:t>
            </a:r>
            <a:endParaRPr b="0" lang="en-US" sz="4400" spc="-1" strike="noStrike">
              <a:solidFill>
                <a:srgbClr val="000000"/>
              </a:solidFill>
              <a:latin typeface="Times New Roman"/>
            </a:endParaRPr>
          </a:p>
        </p:txBody>
      </p:sp>
      <p:sp>
        <p:nvSpPr>
          <p:cNvPr id="99" name="PlaceHolder 2"/>
          <p:cNvSpPr>
            <a:spLocks noGrp="1"/>
          </p:cNvSpPr>
          <p:nvPr>
            <p:ph/>
          </p:nvPr>
        </p:nvSpPr>
        <p:spPr>
          <a:xfrm>
            <a:off x="609120" y="1981080"/>
            <a:ext cx="80773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buy a Medigap polic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6 months of enrolling in Part B</a:t>
            </a:r>
            <a:endParaRPr b="0" lang="en-US" sz="24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st be age 65 or older</a:t>
            </a:r>
            <a:endParaRPr b="0" lang="en-US" sz="2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lose certain kinds of health coverage through no fault of your ow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leave your Medicare Advantage Plan in some cas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the company will sell you 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ly premiu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go to any doctor or specialist</a:t>
            </a:r>
            <a:endParaRPr b="0" lang="en-US" sz="2800" spc="-1" strike="noStrike">
              <a:solidFill>
                <a:srgbClr val="000000"/>
              </a:solidFill>
              <a:latin typeface="Times New Roman"/>
            </a:endParaRPr>
          </a:p>
        </p:txBody>
      </p:sp>
      <p:sp>
        <p:nvSpPr>
          <p:cNvPr id="100"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ga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532AF9C7-6FF8-4987-8311-6F73A54D91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Advantage Plans</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1752120"/>
            <a:ext cx="80010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Maintenance Organization (HMO) Pla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have Point-of-Service op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erred Provider Organization (PPO)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Fee-for-Service (PFFS)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Needs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Medical Savings Account (MSA) Plans—new in 2007</a:t>
            </a:r>
            <a:endParaRPr b="0" lang="en-US" sz="3200" spc="-1" strike="noStrike">
              <a:solidFill>
                <a:srgbClr val="000000"/>
              </a:solidFill>
              <a:latin typeface="Times New Roman"/>
            </a:endParaRPr>
          </a:p>
        </p:txBody>
      </p:sp>
      <p:sp>
        <p:nvSpPr>
          <p:cNvPr id="103"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BDC64E44-0F26-4055-A23C-7DA24384A4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Medicare Pla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Cost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s/Pilot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of All-inclusive Care for the Elderly (PA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87D0A013-7347-4573-B239-9767FD946D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5530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22860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ligibility for Medicare Advantage Plans</a:t>
            </a:r>
            <a:endParaRPr b="0" lang="en-US" sz="40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 in plan’s servic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Medicare Part A and Part 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o pay Part B premiu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pay additional monthly premium to pl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have ESRD at the time of enroll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ceptions</a:t>
            </a:r>
            <a:endParaRPr b="0" lang="en-US" sz="2800" spc="-1" strike="noStrike">
              <a:solidFill>
                <a:srgbClr val="000000"/>
              </a:solidFill>
              <a:latin typeface="Times New Roman"/>
            </a:endParaRPr>
          </a:p>
        </p:txBody>
      </p:sp>
      <p:sp>
        <p:nvSpPr>
          <p:cNvPr id="111" name=""/>
          <p:cNvSpPr/>
          <p:nvPr/>
        </p:nvSpPr>
        <p:spPr>
          <a:xfrm>
            <a:off x="443376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2CE92151-A524-4CC3-AF0F-C1922C6F2A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Medicare Advantage Plans Work</a:t>
            </a:r>
            <a:endParaRPr b="0" lang="en-US" sz="40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get all Medicare Part A and Part B services through the plan</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have to use providers that belong to the plan</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get extra benefit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get vision, hearing, dental servic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get prescription drug coverage</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in Medicare program</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all Part A and Part B servic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edicare rights and protections</a:t>
            </a:r>
            <a:endParaRPr b="0" lang="en-US" sz="2400" spc="-1" strike="noStrike">
              <a:solidFill>
                <a:srgbClr val="000000"/>
              </a:solidFill>
              <a:latin typeface="Times New Roman"/>
            </a:endParaRPr>
          </a:p>
        </p:txBody>
      </p:sp>
      <p:sp>
        <p:nvSpPr>
          <p:cNvPr id="115"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6CA2E7D6-F5BB-4DD9-AF4B-5132E121CF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lcome to Medicare</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1981080"/>
            <a:ext cx="8534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Medic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upplement Insurance/Medig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and 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id and Medicare Savings Progra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C385F005-7890-4240-A414-D13092718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rescription Drug Coverage</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age began January 1,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eople with Medicare can join a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d throug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Prescription Drug Pla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Advantage Plans and Other Medicare Pla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mployers and unions</a:t>
            </a:r>
            <a:endParaRPr b="0" lang="en-US" sz="2800" spc="-1" strike="noStrike">
              <a:solidFill>
                <a:srgbClr val="000000"/>
              </a:solidFill>
              <a:latin typeface="Times New Roman"/>
            </a:endParaRPr>
          </a:p>
        </p:txBody>
      </p:sp>
      <p:sp>
        <p:nvSpPr>
          <p:cNvPr id="118"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14201271-05B9-4445-9B24-3EBEB79A75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Drug Coverage</a:t>
            </a:r>
            <a:br>
              <a:rPr sz="4400"/>
            </a:br>
            <a:r>
              <a:rPr b="0" lang="en-US" sz="4400" spc="-1" strike="noStrike">
                <a:solidFill>
                  <a:srgbClr val="000000"/>
                </a:solidFill>
                <a:latin typeface="Times New Roman"/>
              </a:rPr>
              <a:t>Enrollment Period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Enrollment Period (IE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months starting 3 months before month eligible for Medic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ual Coordinated Election Period (AE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15 through December 31 each ye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join, drop, or switch coverage</a:t>
            </a:r>
            <a:endParaRPr b="0" lang="en-US" sz="28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ange effective January 1 of following year</a:t>
            </a:r>
            <a:endParaRPr b="0" lang="en-US" sz="26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Enrollment Period (SEP)</a:t>
            </a:r>
            <a:endParaRPr b="0" lang="en-US" sz="3200" spc="-1" strike="noStrike">
              <a:solidFill>
                <a:srgbClr val="000000"/>
              </a:solidFill>
              <a:latin typeface="Times New Roman"/>
            </a:endParaRPr>
          </a:p>
        </p:txBody>
      </p:sp>
      <p:sp>
        <p:nvSpPr>
          <p:cNvPr id="121"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11EF2A98-9E05-421C-8467-59AF4F2613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Drug Coverage</a:t>
            </a:r>
            <a:br>
              <a:rPr sz="4400"/>
            </a:br>
            <a:r>
              <a:rPr b="0" lang="en-US" sz="4400" spc="-1" strike="noStrike">
                <a:solidFill>
                  <a:srgbClr val="000000"/>
                </a:solidFill>
                <a:latin typeface="Times New Roman"/>
              </a:rPr>
              <a:t>Late Enrollmen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it to enroll, you may pay a penal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1% of national base premium for every month eligible but not enroll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pay the penalty as long as enrolled in a Medicare drug pl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ess you have other coverage at least as good as Medicare drug coverage</a:t>
            </a:r>
            <a:endParaRPr b="0" lang="en-US" sz="3200" spc="-1" strike="noStrike">
              <a:solidFill>
                <a:srgbClr val="000000"/>
              </a:solidFill>
              <a:latin typeface="Times New Roman"/>
            </a:endParaRPr>
          </a:p>
        </p:txBody>
      </p:sp>
      <p:sp>
        <p:nvSpPr>
          <p:cNvPr id="124"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77ED74A6-A1A6-4310-A6FD-FD6CF72281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rescription Drug Plans</a:t>
            </a:r>
            <a:endParaRPr b="0" lang="en-US" sz="4400" spc="-1" strike="noStrike">
              <a:solidFill>
                <a:srgbClr val="000000"/>
              </a:solidFill>
              <a:latin typeface="Times New Roman"/>
            </a:endParaRPr>
          </a:p>
        </p:txBody>
      </p:sp>
      <p:sp>
        <p:nvSpPr>
          <p:cNvPr id="126" name="PlaceHolder 2"/>
          <p:cNvSpPr>
            <a:spLocks noGrp="1"/>
          </p:cNvSpPr>
          <p:nvPr>
            <p:ph/>
          </p:nvPr>
        </p:nvSpPr>
        <p:spPr>
          <a:xfrm>
            <a:off x="685440" y="1752120"/>
            <a:ext cx="8001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offer standard (minimum) drug benefi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6 you may pay</a:t>
            </a:r>
            <a:endParaRPr b="0" lang="en-US" sz="28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nthly premiums</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nual deductible, no more than $250</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payments or coinsurance</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ery little after $3,600 out-of-pocket</a:t>
            </a:r>
            <a:endParaRPr b="0" lang="en-US" sz="26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offer more benefi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get plan information and cos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medicare.gov</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00-MEDICARE (1-800-633-4227)</a:t>
            </a:r>
            <a:endParaRPr b="0" lang="en-US" sz="2800" spc="-1" strike="noStrike">
              <a:solidFill>
                <a:srgbClr val="000000"/>
              </a:solidFill>
              <a:latin typeface="Times New Roman"/>
            </a:endParaRPr>
          </a:p>
        </p:txBody>
      </p:sp>
      <p:sp>
        <p:nvSpPr>
          <p:cNvPr id="127"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C04ED5AF-2328-425F-B3DE-D324D355ED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 Help With Drug Costs</a:t>
            </a:r>
            <a:endParaRPr b="0" lang="en-US" sz="4400" spc="-1" strike="noStrike">
              <a:solidFill>
                <a:srgbClr val="000000"/>
              </a:solidFill>
              <a:latin typeface="Times New Roman"/>
            </a:endParaRPr>
          </a:p>
        </p:txBody>
      </p:sp>
      <p:sp>
        <p:nvSpPr>
          <p:cNvPr id="129"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ny people with limited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e limit $1,225/month (one person) or $1,650/month (married couple) in 200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limit $11,500 (one person) or $23,000 (married couple)</a:t>
            </a:r>
            <a:endParaRPr b="0" lang="en-US" sz="2800" spc="-1" strike="noStrike">
              <a:solidFill>
                <a:srgbClr val="000000"/>
              </a:solidFill>
              <a:latin typeface="Times New Roman"/>
            </a:endParaRPr>
          </a:p>
        </p:txBody>
      </p:sp>
      <p:sp>
        <p:nvSpPr>
          <p:cNvPr id="130"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4EA81CE0-D7B6-4334-95C3-7C29F9162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 Help With Drug Costs</a:t>
            </a:r>
            <a:endParaRPr b="0" lang="en-US" sz="4400" spc="-1" strike="noStrike">
              <a:solidFill>
                <a:srgbClr val="000000"/>
              </a:solidFill>
              <a:latin typeface="Times New Roman"/>
            </a:endParaRPr>
          </a:p>
        </p:txBody>
      </p:sp>
      <p:sp>
        <p:nvSpPr>
          <p:cNvPr id="132"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ith lowest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no premiums or deducti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small or no copay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se with slightly higher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no or a reduced premiu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reduced deducti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a little more out of pocket</a:t>
            </a:r>
            <a:endParaRPr b="0" lang="en-US" sz="2800" spc="-1" strike="noStrike">
              <a:solidFill>
                <a:srgbClr val="000000"/>
              </a:solidFill>
              <a:latin typeface="Times New Roman"/>
            </a:endParaRPr>
          </a:p>
        </p:txBody>
      </p:sp>
      <p:sp>
        <p:nvSpPr>
          <p:cNvPr id="133"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7B197CB1-2A02-4F1D-9635-8C80ECD3F4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igibility for Extra Help</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automatically qualify if you have Medicare an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full Medicaid benefi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Supplemental Security Income (SS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help from Medicaid paying your Medicare premium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 must apply and qualify</a:t>
            </a:r>
            <a:endParaRPr b="0" lang="en-US" sz="3200" spc="-1" strike="noStrike">
              <a:solidFill>
                <a:srgbClr val="000000"/>
              </a:solidFill>
              <a:latin typeface="Times New Roman"/>
            </a:endParaRPr>
          </a:p>
        </p:txBody>
      </p:sp>
      <p:sp>
        <p:nvSpPr>
          <p:cNvPr id="136"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389D7491-F003-4A39-B577-8BE57A37EB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530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094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id</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676160"/>
            <a:ext cx="81532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and state progra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ome people with limited income and resour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ligible, most health care costs cov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ate deci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eligi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people appl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names var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Servi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Assist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Services</a:t>
            </a:r>
            <a:endParaRPr b="0" lang="en-US" sz="2400" spc="-1" strike="noStrike">
              <a:solidFill>
                <a:srgbClr val="000000"/>
              </a:solidFill>
              <a:latin typeface="Times New Roman"/>
            </a:endParaRPr>
          </a:p>
        </p:txBody>
      </p:sp>
      <p:sp>
        <p:nvSpPr>
          <p:cNvPr id="141"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id and Medicare Savings Program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8E2CD24B-2BF1-4A99-AC0E-9BBB46A0C5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Savings Programs</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676520"/>
            <a:ext cx="807732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avings Progra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from Medicaid paying Medicare premiu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people with limited income and re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lso pay Medicare deductibles and coinsur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E</a:t>
            </a:r>
            <a:endParaRPr b="0" lang="en-US" sz="3200" spc="-1" strike="noStrike">
              <a:solidFill>
                <a:srgbClr val="000000"/>
              </a:solidFill>
              <a:latin typeface="Times New Roman"/>
            </a:endParaRPr>
          </a:p>
        </p:txBody>
      </p:sp>
      <p:sp>
        <p:nvSpPr>
          <p:cNvPr id="144"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id and Medicare Savings Program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6DFCAE33-B943-4054-969D-C77BD69845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ore Information</a:t>
            </a: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00-MEDICARE (1-800-633-4227)</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TY users call 1-877-486-2048</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medicare.gov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Health Insurance Assistance Program (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edicare &amp; You</a:t>
            </a:r>
            <a:r>
              <a:rPr b="0" lang="en-US" sz="3200" spc="-1" strike="noStrike">
                <a:solidFill>
                  <a:srgbClr val="000000"/>
                </a:solidFill>
                <a:latin typeface="Times New Roman"/>
              </a:rPr>
              <a:t> handboo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publicatio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400CB28E-1898-46EE-9157-9B95A7E7B0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edicare?</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insurance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65 years of age and old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under age 65 with certain disab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of all ages with End-Stage Renal Disease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by the Centers for Medicare &amp; Medicaid Services (C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 up with the Social Security Administration or Railroad Retirement Board</a:t>
            </a:r>
            <a:endParaRPr b="0" lang="en-US" sz="3200" spc="-1" strike="noStrike">
              <a:solidFill>
                <a:srgbClr val="000000"/>
              </a:solidFill>
              <a:latin typeface="Times New Roman"/>
            </a:endParaRPr>
          </a:p>
        </p:txBody>
      </p:sp>
      <p:sp>
        <p:nvSpPr>
          <p:cNvPr id="5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9BEC9EC2-14FE-42DD-85C4-7BA5EAD819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upplement Insurance (Medig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Plans and 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id and Medicare Savings Progra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4057C2E4-1873-4C77-B10D-EEA09133A5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19320" y="2971800"/>
            <a:ext cx="6781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s for your attention!</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07-20-06</a:t>
            </a:r>
          </a:p>
        </p:txBody>
      </p:sp>
      <p:sp>
        <p:nvSpPr>
          <p:cNvPr id="3" name="PlaceHolder 2"/>
          <p:cNvSpPr>
            <a:spLocks noGrp="1"/>
          </p:cNvSpPr>
          <p:nvPr>
            <p:ph type="sldNum" idx="1"/>
          </p:nvPr>
        </p:nvSpPr>
        <p:spPr/>
        <p:txBody>
          <a:bodyPr/>
          <a:p>
            <a:fld id="{DD6EEC52-CE33-4F70-9604-A4823C2A0DE7}"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ying for Medicar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3 months before age 65</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have to be ret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the Social Security Administr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rollment automatic if you get Social Security or Railroad Retirement benefits</a:t>
            </a:r>
            <a:endParaRPr b="0" lang="en-US" sz="3200" spc="-1" strike="noStrike">
              <a:solidFill>
                <a:srgbClr val="000000"/>
              </a:solidFill>
              <a:latin typeface="Times New Roman"/>
            </a:endParaRPr>
          </a:p>
        </p:txBody>
      </p:sp>
      <p:sp>
        <p:nvSpPr>
          <p:cNvPr id="57"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graphicFrame>
        <p:nvGraphicFramePr>
          <p:cNvPr id="58" name=""/>
          <p:cNvGraphicFramePr/>
          <p:nvPr/>
        </p:nvGraphicFramePr>
        <p:xfrm>
          <a:off x="228600" y="4572000"/>
          <a:ext cx="2832120" cy="2227320"/>
        </p:xfrm>
        <a:graphic>
          <a:graphicData uri="http://schemas.openxmlformats.org/presentationml/2006/ole">
            <p:oleObj r:id="rId1" spid="">
              <p:embed/>
              <p:pic>
                <p:nvPicPr>
                  <p:cNvPr id="59" name="" descr=""/>
                  <p:cNvPicPr/>
                  <p:nvPr/>
                </p:nvPicPr>
                <p:blipFill>
                  <a:blip r:embed="rId2"/>
                  <a:stretch/>
                </p:blipFill>
                <p:spPr>
                  <a:xfrm>
                    <a:off x="228600" y="4572000"/>
                    <a:ext cx="2832120" cy="2227320"/>
                  </a:xfrm>
                  <a:prstGeom prst="rect">
                    <a:avLst/>
                  </a:prstGeom>
                  <a:ln w="0">
                    <a:noFill/>
                  </a:ln>
                </p:spPr>
              </p:pic>
            </p:oleObj>
          </a:graphicData>
        </a:graphic>
      </p:graphicFrame>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5A6B39FA-2D48-439A-BAE7-4796D21F3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a:t>
            </a:r>
            <a:endParaRPr b="0" lang="en-US" sz="4400" spc="-1" strike="noStrike">
              <a:solidFill>
                <a:srgbClr val="000000"/>
              </a:solidFill>
              <a:latin typeface="Times New Roman"/>
            </a:endParaRPr>
          </a:p>
        </p:txBody>
      </p:sp>
      <p:sp>
        <p:nvSpPr>
          <p:cNvPr id="61" name=""/>
          <p:cNvSpPr/>
          <p:nvPr/>
        </p:nvSpPr>
        <p:spPr>
          <a:xfrm>
            <a:off x="2214720" y="1600200"/>
            <a:ext cx="4576680" cy="90972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Basics</a:t>
            </a:r>
            <a:endParaRPr b="0" lang="en-US" sz="2800" spc="-1" strike="noStrike">
              <a:solidFill>
                <a:srgbClr val="000000"/>
              </a:solidFill>
              <a:latin typeface="Times New Roman"/>
            </a:endParaRPr>
          </a:p>
        </p:txBody>
      </p:sp>
      <p:sp>
        <p:nvSpPr>
          <p:cNvPr id="62" name=""/>
          <p:cNvSpPr/>
          <p:nvPr/>
        </p:nvSpPr>
        <p:spPr>
          <a:xfrm>
            <a:off x="685800" y="3359160"/>
            <a:ext cx="3414600" cy="151776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pital Insuranc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4876920" y="3359160"/>
            <a:ext cx="3581280" cy="151776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Insuranc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cxnSp>
        <p:nvCxnSpPr>
          <p:cNvPr id="64" name=""/>
          <p:cNvCxnSpPr>
            <a:stCxn id="61" idx="2"/>
            <a:endCxn id="62" idx="0"/>
          </p:cNvCxnSpPr>
          <p:nvPr/>
        </p:nvCxnSpPr>
        <p:spPr>
          <a:xfrm rot="5400000">
            <a:off x="3023640" y="1879560"/>
            <a:ext cx="849960" cy="2110320"/>
          </a:xfrm>
          <a:prstGeom prst="bentConnector3">
            <a:avLst>
              <a:gd name="adj1" fmla="val 49872"/>
            </a:avLst>
          </a:prstGeom>
          <a:ln w="12600">
            <a:solidFill>
              <a:srgbClr val="000000"/>
            </a:solidFill>
            <a:miter/>
            <a:tailEnd len="med" type="triangle" w="med"/>
          </a:ln>
        </p:spPr>
      </p:cxnSp>
      <p:cxnSp>
        <p:nvCxnSpPr>
          <p:cNvPr id="65" name=""/>
          <p:cNvCxnSpPr>
            <a:stCxn id="61" idx="2"/>
            <a:endCxn id="63" idx="0"/>
          </p:cNvCxnSpPr>
          <p:nvPr/>
        </p:nvCxnSpPr>
        <p:spPr>
          <a:xfrm flipH="1" rot="16200000">
            <a:off x="5159880" y="1852200"/>
            <a:ext cx="849960" cy="2164680"/>
          </a:xfrm>
          <a:prstGeom prst="bentConnector3">
            <a:avLst>
              <a:gd name="adj1" fmla="val 49872"/>
            </a:avLst>
          </a:prstGeom>
          <a:ln w="12600">
            <a:solidFill>
              <a:srgbClr val="000000"/>
            </a:solidFill>
            <a:miter/>
            <a:tailEnd len="med" type="triangle" w="med"/>
          </a:ln>
        </p:spPr>
      </p:cxnSp>
      <p:sp>
        <p:nvSpPr>
          <p:cNvPr id="66" name=""/>
          <p:cNvSpPr/>
          <p:nvPr/>
        </p:nvSpPr>
        <p:spPr>
          <a:xfrm>
            <a:off x="4495680" y="28954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66880" y="5105520"/>
            <a:ext cx="3733920" cy="1447560"/>
          </a:xfrm>
          <a:prstGeom prst="rect">
            <a:avLst/>
          </a:prstGeom>
          <a:solidFill>
            <a:srgbClr val="99ccff"/>
          </a:solidFill>
          <a:ln w="9360">
            <a:solidFill>
              <a:srgbClr val="000000"/>
            </a:solidFill>
            <a:miter/>
          </a:ln>
        </p:spPr>
        <p:style>
          <a:lnRef idx="0"/>
          <a:fillRef idx="0"/>
          <a:effectRef idx="0"/>
          <a:fontRef idx="minor"/>
        </p:style>
        <p:txBody>
          <a:bodyPr wrap="none" lIns="182880" rIns="182880" tIns="137160" bIns="182880" anchor="ctr">
            <a:noAutofit/>
          </a:bodyPr>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400" spc="-1" strike="noStrike">
                <a:solidFill>
                  <a:srgbClr val="000000"/>
                </a:solidFill>
                <a:latin typeface="Times New Roman"/>
              </a:rPr>
              <a:t>NEW in 2006</a:t>
            </a:r>
            <a:endParaRPr b="0" lang="en-US" sz="2400" spc="-1" strike="noStrike">
              <a:solidFill>
                <a:srgbClr val="000000"/>
              </a:solidFill>
              <a:latin typeface="Times New Roman"/>
            </a:endParaRPr>
          </a:p>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cription Drug </a:t>
            </a:r>
            <a:endParaRPr b="0" lang="en-US" sz="2800" spc="-1" strike="noStrike">
              <a:solidFill>
                <a:srgbClr val="000000"/>
              </a:solidFill>
              <a:latin typeface="Times New Roman"/>
            </a:endParaRPr>
          </a:p>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age (Part D)</a:t>
            </a:r>
            <a:endParaRPr b="0" lang="en-US" sz="2800" spc="-1" strike="noStrike">
              <a:solidFill>
                <a:srgbClr val="000000"/>
              </a:solidFill>
              <a:latin typeface="Times New Roman"/>
            </a:endParaRPr>
          </a:p>
        </p:txBody>
      </p:sp>
      <p:sp>
        <p:nvSpPr>
          <p:cNvPr id="68"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797A4E71-99DF-4884-8BEF-AA08CF18CC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Coverage Basics</a:t>
            </a:r>
            <a:endParaRPr b="0" lang="en-US" sz="4400" spc="-1" strike="noStrike">
              <a:solidFill>
                <a:srgbClr val="000000"/>
              </a:solidFill>
              <a:latin typeface="Times New Roman"/>
            </a:endParaRPr>
          </a:p>
        </p:txBody>
      </p:sp>
      <p:sp>
        <p:nvSpPr>
          <p:cNvPr id="70"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graphicFrame>
        <p:nvGraphicFramePr>
          <p:cNvPr id="71" name=""/>
          <p:cNvGraphicFramePr/>
          <p:nvPr/>
        </p:nvGraphicFramePr>
        <p:xfrm>
          <a:off x="685800" y="1752480"/>
          <a:ext cx="7772400" cy="4552920"/>
        </p:xfrm>
        <a:graphic>
          <a:graphicData uri="http://schemas.openxmlformats.org/drawingml/2006/table">
            <a:tbl>
              <a:tblPr/>
              <a:tblGrid>
                <a:gridCol w="1523880"/>
                <a:gridCol w="6248520"/>
              </a:tblGrid>
              <a:tr h="178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ient hospital care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ed nursing car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health car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ce ca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services and outpatient care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ive services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nostic tests</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therapies</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ble medical equipme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atient prescription drug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D6D3ED6A-0469-4F4C-AA3A-0C5673FE4A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art A</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people don’t pay a monthly premium for Par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ith less than 10 years of Medicare-covered work can still get Part 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pay a premiu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formation about Part A eligibility, call Social Secur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772-12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325-0778 for TTY users</a:t>
            </a:r>
            <a:endParaRPr b="0" lang="en-US" sz="2400" spc="-1" strike="noStrike">
              <a:solidFill>
                <a:srgbClr val="000000"/>
              </a:solidFill>
              <a:latin typeface="Times New Roman"/>
            </a:endParaRPr>
          </a:p>
        </p:txBody>
      </p:sp>
      <p:sp>
        <p:nvSpPr>
          <p:cNvPr id="7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5FF2CF2E-CA64-4BDD-A8E8-CACF97CC30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rolling in Medicare Part B</a:t>
            </a:r>
            <a:endParaRPr b="0" lang="en-US" sz="4400" spc="-1" strike="noStrike">
              <a:solidFill>
                <a:srgbClr val="000000"/>
              </a:solidFill>
              <a:latin typeface="Times New Roman"/>
            </a:endParaRPr>
          </a:p>
        </p:txBody>
      </p:sp>
      <p:sp>
        <p:nvSpPr>
          <p:cNvPr id="76" name="PlaceHolder 2"/>
          <p:cNvSpPr>
            <a:spLocks noGrp="1"/>
          </p:cNvSpPr>
          <p:nvPr>
            <p:ph/>
          </p:nvPr>
        </p:nvSpPr>
        <p:spPr>
          <a:xfrm>
            <a:off x="53352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choose whether or not to enroll in Part B</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ly Part B premium ($88.50 in 200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Enrollment Period (IEP)</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months starting 3 months before month of eligibilit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Enrollment Period (GEP)</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uary 1 through March 31 each ye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 begins July 1</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enalty</a:t>
            </a:r>
            <a:endParaRPr b="0" lang="en-US" sz="24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 for each full 12-month period eligible but not enrolled</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id for as long as you have Part B</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cept in some cases</a:t>
            </a:r>
            <a:endParaRPr b="0" lang="en-US" sz="2200" spc="-1" strike="noStrike">
              <a:solidFill>
                <a:srgbClr val="000000"/>
              </a:solidFill>
              <a:latin typeface="Times New Roman"/>
            </a:endParaRPr>
          </a:p>
        </p:txBody>
      </p:sp>
      <p:sp>
        <p:nvSpPr>
          <p:cNvPr id="77"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0A393963-BB5D-4412-A5B4-887B89783F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rolling in Medicare Part B </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eople can delay enrolling in Part B with no penal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vered under employer or union group health 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your or your spouse’s current jo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get a Special Enrollment Period (SEP)</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gn up within 8 months after coverage ends</a:t>
            </a:r>
            <a:endParaRPr b="0" lang="en-US" sz="2600" spc="-1" strike="noStrike">
              <a:solidFill>
                <a:srgbClr val="000000"/>
              </a:solidFill>
              <a:latin typeface="Times New Roman"/>
            </a:endParaRPr>
          </a:p>
        </p:txBody>
      </p:sp>
      <p:sp>
        <p:nvSpPr>
          <p:cNvPr id="80"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105E4A88-8A64-48C6-9BE8-C55F50549F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12:04:56Z</dcterms:created>
  <dc:creator>CMS</dc:creator>
  <dc:description/>
  <dc:language>en-US</dc:language>
  <cp:lastModifiedBy>CMS</cp:lastModifiedBy>
  <dcterms:modified xsi:type="dcterms:W3CDTF">2006-08-22T21:15:49Z</dcterms:modified>
  <cp:revision>7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5079723</vt:r8>
  </property>
  <property fmtid="{D5CDD505-2E9C-101B-9397-08002B2CF9AE}" pid="3" name="_AuthorEmail">
    <vt:lpwstr>Brenda.Stup@cms.hhs.gov</vt:lpwstr>
  </property>
  <property fmtid="{D5CDD505-2E9C-101B-9397-08002B2CF9AE}" pid="4" name="_AuthorEmailDisplayName">
    <vt:lpwstr>Stup, Brenda D. (CMS/CBC)</vt:lpwstr>
  </property>
  <property fmtid="{D5CDD505-2E9C-101B-9397-08002B2CF9AE}" pid="5" name="_EmailSubject">
    <vt:lpwstr>Final modules for posting (as of right now, anyway)</vt:lpwstr>
  </property>
  <property fmtid="{D5CDD505-2E9C-101B-9397-08002B2CF9AE}" pid="6" name="_NewReviewCycle">
    <vt:lpwstr/>
  </property>
  <property fmtid="{D5CDD505-2E9C-101B-9397-08002B2CF9AE}" pid="7" name="_ReviewingToolsShownOnce">
    <vt:lpwstr/>
  </property>
</Properties>
</file>